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CAA-B6B9-49DB-B58B-8B7ADF048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F23-D532-452B-A0F8-86B8D8ADC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5C96AA7-E49C-4E98-9E4F-876183F3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496C7E-378B-44EC-96EA-2236A37AA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E497DC-A95D-497D-986D-90D9127F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4F9B54-6981-42E4-937C-80959EFF3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2D051ED-1591-4379-8795-A16561E0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2AC23B5-9B81-401B-9F5B-F626B1D4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C694D0-0909-40DE-BCCA-3AD829372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832C71-9C78-4BDF-B95E-964F28055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9E6725-C98A-47AA-A9FD-5CB0549DC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54E512-2113-4F3A-A87A-DF98E2F35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C3CB-5417-4FD1-B541-9191C7993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8F5329E-3C07-4F4F-B7BD-1FFE6F20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5550634-FCA9-4B7F-AD7B-BAF1C792C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D2C7851-A58A-48CE-86B9-6695F99FB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A928513-79FC-41F1-BB64-6EE87A03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EFB7F13-9151-4F04-8E9E-42D9D29F9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E1DEB78-DB3A-4CDE-A656-8DD6D0FE9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DFC895-F3E1-4C91-A2D1-2223A08D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824D148-E6BE-4B0E-9AD2-060D05CE3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F47BFF7-FAEC-4CD1-B04D-77647048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5298E09-D300-4BE0-8D80-09F7A0F1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513D-5EC1-437E-8640-E1B48534E0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8D7B82E-368A-4B52-99CC-059250BB7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A069C9-31FF-4E64-AC2C-EE514F369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751E9-7652-445C-AA5E-D3765FB1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C783BE-7920-4594-A072-E69ED3B8C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6635FB-599C-4E65-9CDF-D8606BCBB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02DC69-0422-4227-B354-C7BD0974B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4985074-A4D3-4DC3-8AEF-FF73F0D8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8BD5E1-6EEA-499A-9369-CE756793D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29C9D0-B5D8-40F2-A0E6-D2661419D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673082-8541-4283-8B2B-C8F59191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B6C11-83A3-4E35-8F69-17AC546BE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78925B-724D-4F34-B890-C01A5F690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DF0F2-0F0C-4D23-9687-C3EDF2C30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9B7119-81D6-48C5-B2A9-9E674A830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0E37B22-0DB8-4147-B93D-BED661DCA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6E2583-D42D-4D05-A318-943C4225F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5727613-640C-4D65-BE13-823544AB3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3C38E0-69E7-4C88-8C46-8E73ADA4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069D7-1D28-4C19-B2EA-2120D01EF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11838B-42B2-45D7-A13F-3FF8B85DD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D5FABD-453A-45D7-961E-1183BA1D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3DC0-B2B1-4453-8290-7C16DEB7E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1FFED4-A2E2-4E27-B269-F89B0BC28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976F30-9947-4E2D-B278-388608905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1CF50B0-FFDC-4DAF-BD7D-C01ECD13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9F3276-2B85-41C2-8777-A7BE2B6DDB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8E73E35-26C6-46AC-9895-249226B59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31F91-D1EE-49E1-A0E0-E221071B6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C05E0-832D-424D-B678-CA69AF444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80E7D-0F96-4F99-8AD2-60392468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9CB1-1BF0-49D1-9949-1C1E185A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389FA-425E-4B89-8A7B-E15279EC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5B45-C9CC-4DC9-AF61-A1A2D368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6A7BA-0A45-48C7-B62A-A12945F03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DFDEA-3DEE-47F3-99F2-B962A5CA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BD9DC-2C24-4237-8B23-3702B89F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B401-2E7E-4CF5-BF9E-4C2FEE977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2955A-E0B9-4EB4-822A-2AB61360C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7F71E-7C26-4F22-8CBC-563B5B53D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CD221-21BA-4571-9AF4-CCE92D84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84176-1466-426D-A4A2-9E670431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5766C9-6829-4A90-8E2E-2320F1443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FAF26-95B8-4A61-9FA9-444DA5BFE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D663-714A-444F-B9E5-61A897FA6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0AE334-DB80-41FC-90E6-7381F182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52B52-7B70-4C73-8FC5-6604CF920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16B8F-547C-43AD-A164-107921B6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FFF618-F574-42E8-B0DE-4937F97D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F07189-1200-400F-A47A-E42AFE8C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4CA84-BAB0-46AB-A32E-F58CBC1E7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E8603-5705-4C97-A617-F2F78ABB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A5DD7-3C42-4FA2-86C8-76F140206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BEAB59-EA9B-49E4-BB22-333B8FFA0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4CE35C-1930-4CB8-872B-1FBFDCC4F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1A33-A147-4879-8735-BBCCED693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0187F0-380C-4DCC-A936-94E50389E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4E737E-0DDD-4E31-BF44-EB1274F9A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60F46-15C6-4608-8620-8007750F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3F6B82-F3F2-4BB8-AFDA-9E50A3102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E23498-F13D-48BB-B791-19B830D61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282E9-D34E-47A1-B33B-4C6F378E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D9A45-135F-4F25-A575-8B11358C2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229AE-2D2A-4D87-BC96-F7AB948BD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BF5D6-FF09-47B9-BA3B-5DA2903B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362644-3D7B-41D2-BDBE-3507834CA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885E-99A6-4792-AFCA-265F5CCB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657685-2B78-4574-B3C1-65B2BCFC3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3E721A-157D-4BB8-8094-0152443F3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5BAA4-E5B5-4AC3-AC39-2D56213FB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687D20-9DE4-4BEE-9CDA-6F86E1EC6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FBF04-9D6F-4E90-8A56-C7BEF5B47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BA2CA-373E-4EA7-AE79-E11DD0872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FFAAE7-AE77-4E9D-BC1F-289E5FEE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B2A08-ADCF-4045-878C-55B0D827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447BE-8F9E-4018-9E9B-E3B961AD9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C19166-7E49-49C5-8F9F-ED5ADDAFD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D4F46-4956-46DA-9A65-E5786CAA9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00F71-CC20-4CE8-8D5B-04BB4A566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BED0-FB61-4945-A1F6-1793C4AF9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A56F3-D3F3-489C-AA24-B8A3D0E6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90AB38-5173-48F7-AF14-52DAB0242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15F6A-25F8-4E2A-A2CB-94C19FE8B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85508-471D-4034-A1EB-95C2E8FAF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A56C9-7E9D-449F-95E0-550DF4D11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5258A-594C-48B3-976D-7457AE35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956B9C-EE6B-44F3-94E6-9E9BE5FD3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E54CDE-E29F-4F0C-ABAC-48AE25DA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9F05-F49D-4DCF-BB34-AB680E2A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B84047-9924-437C-BE77-9DF8F35B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54355A-2ADC-4E76-9A3C-D38C3DFBB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FCD7-BFFD-4F81-81FB-D1E53254E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3F044C-00E0-486B-A1E4-4AB9B0101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FD618A-48AC-47E2-9D76-E6AFBC5E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4F2DE-BB3E-45D9-ABF9-B05DF5A7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13E1D6-8695-4D5A-B8A6-1ABF6751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36413A-6724-4FEB-875C-FB5797AD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DDBA3-1C4A-442D-8421-79C5104F5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94B37-035F-4571-BEFB-5C945E351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1B1D4-AB3D-4D09-BD9A-94D1A9383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D760C5-137A-4D28-9B11-E169CE828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3E88E3-1122-46A3-B061-48091D82A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397607-EF01-48F6-9292-CCCB94F18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FDAE4-9CDE-44F8-8792-FD59355F2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379F0-C6D4-480D-B56B-705EE7536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7B3DED-5826-4028-99F6-55340D828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1B796-30EC-427C-AD6D-54D092E63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80550-FC91-4BDC-8279-7BD517CBD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9CBB9E-D661-4E00-BF5C-58A872F2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245172-0B1B-479A-914A-4B17136C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CF09-84AB-49B6-BAA5-C91CBD8A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B0125-06AD-4AA2-BA24-4F7405651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DF6E25-0657-417F-96E9-08FB0D96A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50C75-0EC1-4605-B8DB-9DE3021A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C2CC9B-856E-4B8B-8337-FF355A70B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FAD2F7-6CA0-4458-88DD-C463EF0A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F9891-68EB-4A2E-A5FC-275FAAC34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87EB9-BEC4-4547-95D4-34CB2A558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472419-93BA-4A99-BDAE-9C9FC916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0E90CAC-6094-432E-943A-33C1A59C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D044043-0C61-4355-93BC-7C71C826A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44D9-9A59-4810-93CA-32C9557ED3BD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0456-6744-4CC0-A967-53969E075ED7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98CF3-9062-47EE-AE48-7006640C298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1D1F9-5E68-490C-9913-A7DAE6BAF92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789F6-3AAD-4CFB-A15A-851B93B0DCA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205A0-6098-47F2-A650-57B195F85C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6CDA7-16F6-4A94-A4A6-79FF72ED433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E5033-A749-45EE-8A65-52ED188E1AC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CFA8-C3AE-48E0-BFEF-77C2353523B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376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3760" cy="1155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3760" cy="1155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376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3760" cy="11376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376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376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376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376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376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3760" cy="11376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840" bIns="33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376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1473-C476-4A37-9CB4-63C2CAC0D12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E3417-4B7F-4043-B231-E42AB6DB3A1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BEA82-17D7-4E1D-9F1F-DB774F8C28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63560" y="326880"/>
            <a:ext cx="52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총인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(TP, Total Phosphorus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설계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측정의 의미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6931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무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+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0"/>
          <p:cNvSpPr/>
          <p:nvPr/>
        </p:nvSpPr>
        <p:spPr>
          <a:xfrm>
            <a:off x="1116000" y="2421000"/>
            <a:ext cx="693108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P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-P +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유기성 인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organic phosphoru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31"/>
          <p:cNvSpPr/>
          <p:nvPr/>
        </p:nvSpPr>
        <p:spPr>
          <a:xfrm>
            <a:off x="1116000" y="3600360"/>
            <a:ext cx="6931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배출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의 척도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부영양화 사전 예측 및 방지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Picture 33" descr="C:\Documents and Settings\최영균\Local Settings\Temporary Internet Files\Content.IE5\N60XFZXI\MPj04334370000[1].jpg"/>
          <p:cNvPicPr/>
          <p:nvPr/>
        </p:nvPicPr>
        <p:blipFill>
          <a:blip r:embed="rId1"/>
          <a:stretch/>
        </p:blipFill>
        <p:spPr>
          <a:xfrm>
            <a:off x="5748480" y="4214880"/>
            <a:ext cx="3132000" cy="207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직사각형 2"/>
          <p:cNvSpPr/>
          <p:nvPr/>
        </p:nvSpPr>
        <p:spPr>
          <a:xfrm>
            <a:off x="379440" y="549360"/>
            <a:ext cx="8496360" cy="28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기물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OH,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)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량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비율이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5:1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되도록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mg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되었으므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의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D: 2.09gCOD/g-ethano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따라서 에탄올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00mg COD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첨가하려면 에탄올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40mg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중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79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려시 약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0.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 첨가하면 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►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에탄올을 취하여 증류수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를 만든 뒤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취하여 사용하면 됨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험시작과 동시에 채취한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탄올을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함께 넣어줄 것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TP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원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0" name="Text Box 58"/>
          <p:cNvSpPr/>
          <p:nvPr/>
        </p:nvSpPr>
        <p:spPr>
          <a:xfrm>
            <a:off x="1847880" y="1341360"/>
            <a:ext cx="44064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 중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화합물을 인산염 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M"/>
                <a:ea typeface="HY그래픽M"/>
              </a:rPr>
              <a:t>3-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P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형태로 산화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분해되기 쉬운 유기물을 함유한 시료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다량의 유기물을 함유한 시료는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질산법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2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Autoclave 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고온고압 멸균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1" name="Text Box 65"/>
          <p:cNvSpPr/>
          <p:nvPr/>
        </p:nvSpPr>
        <p:spPr>
          <a:xfrm>
            <a:off x="1828800" y="3213000"/>
            <a:ext cx="2802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환원 흡광광도법으로 정량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정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tandard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제조 필요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66"/>
          <p:cNvSpPr/>
          <p:nvPr/>
        </p:nvSpPr>
        <p:spPr>
          <a:xfrm>
            <a:off x="1370160" y="4437000"/>
            <a:ext cx="4573440" cy="5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량범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 0.001~0.025 mgP/ml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편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~10%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Text Box 16"/>
          <p:cNvSpPr/>
          <p:nvPr/>
        </p:nvSpPr>
        <p:spPr>
          <a:xfrm>
            <a:off x="1104480" y="1152360"/>
            <a:ext cx="611280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황산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Potassium Persulfate;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4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소모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조별로 각각 제조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4" name="Text Box 18"/>
          <p:cNvSpPr/>
          <p:nvPr/>
        </p:nvSpPr>
        <p:spPr>
          <a:xfrm>
            <a:off x="755640" y="2443320"/>
            <a:ext cx="8137440" cy="34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Molybdate(VI); 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4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1.2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주석산안티몬칼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ntimony-potassium tartate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Sb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048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약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2+1,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=2:1 v/v) 24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술퍼민산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Sulfamate;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넣어 녹인 다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위 용액에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7.2% L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scorbic Acid; 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6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섞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아스코르빈산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1.44g/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증류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M"/>
                <a:ea typeface="HY그래픽M"/>
              </a:rPr>
              <a:t>20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사용시 조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시료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개당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사용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한 조에서 만들어 나누어 사용할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5" name="Text Box 20"/>
          <p:cNvSpPr/>
          <p:nvPr/>
        </p:nvSpPr>
        <p:spPr>
          <a:xfrm>
            <a:off x="644760" y="78588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Text Box 13"/>
          <p:cNvSpPr/>
          <p:nvPr/>
        </p:nvSpPr>
        <p:spPr>
          <a:xfrm>
            <a:off x="1983600" y="2330280"/>
            <a:ext cx="543240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 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증류수를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5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0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배 희석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,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각 조별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7" name="Text Box 15"/>
          <p:cNvSpPr/>
          <p:nvPr/>
        </p:nvSpPr>
        <p:spPr>
          <a:xfrm>
            <a:off x="1765080" y="981000"/>
            <a:ext cx="537696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인산염 인 표준 원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1mgP/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5~110℃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미리 건조한 인산이수소칼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0.439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정밀하게 측정하여 증류수에 녹여 정확히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0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8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8"/>
          <p:cNvSpPr/>
          <p:nvPr/>
        </p:nvSpPr>
        <p:spPr>
          <a:xfrm>
            <a:off x="710640" y="642960"/>
            <a:ext cx="194076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실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&amp;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설계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0" name="Text Box 13"/>
          <p:cNvSpPr/>
          <p:nvPr/>
        </p:nvSpPr>
        <p:spPr>
          <a:xfrm>
            <a:off x="971640" y="1225440"/>
            <a:ext cx="7129440" cy="21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 함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6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이면 희석 필요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분해병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황산칼륨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마개를 닫고 흔들어 섞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고압증기멸균기에 넣고 가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2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도달한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3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가열 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해병을 꺼내어 방냉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4"/>
          <p:cNvSpPr/>
          <p:nvPr/>
        </p:nvSpPr>
        <p:spPr>
          <a:xfrm>
            <a:off x="971640" y="3395520"/>
            <a:ext cx="7129440" cy="24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시료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F/C fil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여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 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는 버리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다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여액을 정확히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취하여 마개 있는 시험관에 넣고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어 흔들어 섞은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20~4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간 방치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용액의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수셀에 옮겨 검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2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1720" y="2428920"/>
            <a:ext cx="1400400" cy="1371600"/>
          </a:xfrm>
          <a:prstGeom prst="rect">
            <a:avLst/>
          </a:prstGeom>
          <a:ln w="0">
            <a:noFill/>
          </a:ln>
        </p:spPr>
      </p:pic>
      <p:sp>
        <p:nvSpPr>
          <p:cNvPr id="803" name="설명선 2 1"/>
          <p:cNvSpPr/>
          <p:nvPr/>
        </p:nvSpPr>
        <p:spPr>
          <a:xfrm>
            <a:off x="4427640" y="1139760"/>
            <a:ext cx="1224000" cy="4032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115648"/>
              <a:gd name="adj6" fmla="val -48740"/>
            </a:avLst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eorgia"/>
                <a:ea typeface="바탕"/>
              </a:rPr>
              <a:t>1.2mgP/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30"/>
          <p:cNvSpPr/>
          <p:nvPr/>
        </p:nvSpPr>
        <p:spPr>
          <a:xfrm>
            <a:off x="971640" y="817560"/>
            <a:ext cx="7129440" cy="26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대조액으로 하여 시료의 시험방법에 따라 시험하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으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몰리브덴산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암모늄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아스코르빈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ml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바로 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검액의 흡광도를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8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이 불가능한 경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710n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리 작성한 검량선으로부터 총인의 양을 구하여 다음 식에서 시료 중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총인 농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P/L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산출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5" name="Object 31"/>
          <p:cNvGraphicFramePr/>
          <p:nvPr/>
        </p:nvGraphicFramePr>
        <p:xfrm>
          <a:off x="1943280" y="3652920"/>
          <a:ext cx="2479320" cy="54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6" name="Object 3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43280" y="3652920"/>
                    <a:ext cx="2479320" cy="54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Rectangle 33"/>
          <p:cNvSpPr/>
          <p:nvPr/>
        </p:nvSpPr>
        <p:spPr>
          <a:xfrm>
            <a:off x="1725840" y="4370400"/>
            <a:ext cx="3079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으로부터 구한 인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g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V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에 사용한 시료의 양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, 5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0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시 부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0+10m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에 사용된 시료의 부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의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9" name="Rectangle 15"/>
          <p:cNvSpPr/>
          <p:nvPr/>
        </p:nvSpPr>
        <p:spPr>
          <a:xfrm>
            <a:off x="2022840" y="1360440"/>
            <a:ext cx="494928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산염 인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0.005mgP/ml) 1~2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을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2, 4, 8, 12,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100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량 플라스크에 넣고 증류수를 첨가하여 표선까지 채운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 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정확히 취하여 마개 있는 시험관에 넣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1/4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희석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실제 표준액 사용 부피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5, 1, 2, 3, 5ml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검량선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x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축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: 0.0025, 0.005, 0.01, 0.015, 0.025mgP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몰리브덴산 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스코르빈산 혼합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료의 시험방법과 동일하게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총인의 양과 흡광도와의 관계선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y=ax+b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작성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0" name="Picture 15" descr="F9-23"/>
          <p:cNvPicPr/>
          <p:nvPr/>
        </p:nvPicPr>
        <p:blipFill>
          <a:blip r:embed="rId1"/>
          <a:stretch/>
        </p:blipFill>
        <p:spPr>
          <a:xfrm>
            <a:off x="611280" y="1484280"/>
            <a:ext cx="757080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Text Box 8"/>
          <p:cNvSpPr/>
          <p:nvPr/>
        </p:nvSpPr>
        <p:spPr>
          <a:xfrm>
            <a:off x="853920" y="260280"/>
            <a:ext cx="32176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(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인공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하수 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TP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를 위한 설계 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2" name="Text Box 13"/>
          <p:cNvSpPr/>
          <p:nvPr/>
        </p:nvSpPr>
        <p:spPr>
          <a:xfrm>
            <a:off x="468360" y="765000"/>
            <a:ext cx="84963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주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슬러지를 이용한 생물학적 인제거 과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및 실험장치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와 마찬가지로 폭기할 수 있도록 준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T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설계와 마찬가지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L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기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인공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0.879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수돗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녹인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10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만들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gP/L  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질소와 알칼리도는 첨가하지 말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안심하수처리장 반송슬러지 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보고서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S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농도만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3" name="Text Box 13"/>
          <p:cNvSpPr/>
          <p:nvPr/>
        </p:nvSpPr>
        <p:spPr>
          <a:xfrm>
            <a:off x="466560" y="3068640"/>
            <a:ext cx="8496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설계 과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4" name="직사각형 6"/>
          <p:cNvSpPr/>
          <p:nvPr/>
        </p:nvSpPr>
        <p:spPr>
          <a:xfrm>
            <a:off x="406440" y="3486240"/>
            <a:ext cx="8496360" cy="30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호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배분은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혐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1~2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호기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2~4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시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조별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정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사항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조건이 만들어지지 않으면 인방출이 되지 않음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따라서 인공시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식종슬러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각에 대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g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씩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purg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후 혼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채취시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번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슬러지 혼합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혐기 종료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즉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폭기 종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&amp;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이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상징액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T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GF/C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과수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PO</a:t>
            </a:r>
            <a:r>
              <a:rPr b="1" lang="en-US" sz="1600" spc="-1" strike="noStrike" u="sng" baseline="-25000">
                <a:solidFill>
                  <a:srgbClr val="000000"/>
                </a:solidFill>
                <a:uFillTx/>
                <a:latin typeface="HY그래픽"/>
                <a:ea typeface="HY그래픽"/>
              </a:rPr>
              <a:t>4</a:t>
            </a:r>
            <a:r>
              <a:rPr b="1" lang="en-US" sz="1600" spc="-1" strike="noStrike" u="sng" baseline="30000">
                <a:solidFill>
                  <a:srgbClr val="000000"/>
                </a:solidFill>
                <a:uFillTx/>
                <a:latin typeface="HY그래픽"/>
                <a:ea typeface="HY그래픽"/>
              </a:rPr>
              <a:t>3-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-P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T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포함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, PO</a:t>
            </a:r>
            <a:r>
              <a:rPr b="1" lang="en-US" sz="1600" spc="-1" strike="noStrike" baseline="-25000">
                <a:solidFill>
                  <a:srgbClr val="ff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ff0000"/>
                </a:solidFill>
                <a:latin typeface="HY그래픽"/>
                <a:ea typeface="HY그래픽"/>
              </a:rPr>
              <a:t>3-</a:t>
            </a:r>
            <a:r>
              <a:rPr b="1" lang="en-US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-P </a:t>
            </a:r>
            <a:r>
              <a:rPr b="1" lang="ko-KR" sz="1600" spc="-1" strike="noStrike">
                <a:solidFill>
                  <a:srgbClr val="ff0000"/>
                </a:solidFill>
                <a:latin typeface="HY그래픽"/>
                <a:ea typeface="HY그래픽"/>
              </a:rPr>
              <a:t>분석은 전처리 미포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6-05T02:02:10Z</dcterms:modified>
  <cp:revision>299</cp:revision>
  <dc:subject/>
  <dc:title>슬라이드 1</dc:title>
</cp:coreProperties>
</file>